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1BA5-A9D6-484C-945F-6D9AEC65A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8118-63AA-4D91-85AC-B7FB981D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FF46-ADE3-49C1-A490-0577901EB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63AC-F7F7-4EDB-A2A2-93F9FC3A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F073-97F9-40D9-B3CB-41CDFEF1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3D95-A0D5-4E73-A454-36B015D2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FEAE-A522-45ED-B21B-9B5C700E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CFDB-A331-4F28-AFB3-D82F1793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CA23-804B-4375-A280-0556B9E9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3A8C-FA71-4E33-93EC-8E3B92C6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F999-E7C8-4D0E-8072-796C4D9B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DE30-E6A7-44C7-93EB-35D7A351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DD83-3B14-4B5A-9237-94CA0A037E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gnificant Articles 200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spital Medic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Gabriela Sullivan M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CCRM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(Borrowed liberally from talk by Brad Sharpe, MD, UCSF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e Control in afib with RV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u C, et al. Crit care Med July 2009; 37(7):217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-label RCT 150 patients who presented to ER with symptomatic uncomplicated afib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ed 3 groups: IV dilt, IV dig, IV am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comes were rate &lt;90 and symptom reli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dilt achieved earlier rate control, more rate control, and shorter LOS. Also better symptom reli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68 year old nursing home resident with S. aureus osteo.  He has new swelling in his right arm. He has a diffusely swollen R arm but no redness or joint swelling.  He has a PICC in that a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the risk of thromboembolism in patients with PIC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 happ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TE with PIC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bo et al, J Hosp Med 2009; 4:417-4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spective chart review of adult general medicine inpatients in a single university-affiliated community hos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54 PICCS; 777 pat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ptomatic patients only screened, mean age 61, 60% w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5% developed UE DV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% developed 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e: 5.0 VTE/1000 PICC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4.5% had a VTE complic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/o VTE (OR 10.8) and non-central PICC location (OR 2.6) associated with V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at UE VTE like LE V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the time of discharge the nurse asks if the patient should get a pneumovax before he goes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re benefit in nursing home patien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neumovax in nursing h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uyama et al. BMJ 2010; 340:c10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uble blind RCT of 1006 Japanese nursing home residents comparing 23-valent pneumovax vs. placebo showed 4.5% decreased risk of pneumoccocal pneumonia (NNT 22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isk of death from pneumococcal disease declined 3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0 yo man with COPD, HTN and chronic back pain is admitted for increasing cough, chest pain, and dyspnea. He describes his pain as “ripping” to his ba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think this is COPD but you are wondering if this could be PE or disse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tests can you order to rule out PE and diss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I of ch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 of the 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-dim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T scan of the ch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7 year old woman with a h/o HTN presents with syncop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ests should you 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dimer in Diss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zuki T et al, Circulation 2009; 119:27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question is can D-dimer aid in evaluation of disse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spective multi-center 222 suspected of dissection, all D-dimer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ients &lt;24 hours of symp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7 patients with diss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 characteristic for D-dimer&lt;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above true rules out dissection 95% of the time, but poor specificity, 61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D-dimer&gt;1600 it showed a positive likelihood ratio of 12.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 D-dimer is slightly elevated so he gets a CT of the chest which is negative except for a new 1 cm pulmonary nodule in the R lo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valence of clinically relevant incidental findings on CT for 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re &lt;1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 than 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ound 2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idental CT sc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l, et al. Arch Intern Med 2009; 169(2):19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spective cross-sectional, 589 CTA’s ordered by ED, reviewed for final read for PE and non-PE find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143000" y="1397160"/>
          <a:ext cx="6858000" cy="43272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din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ternative Diagno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idental=f/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idental no f/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*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_x0013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idental CT scan find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idental findings common for CTA. Many require f/u; new nodules/L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 creatinine went from .9-1.3 over a 36 hour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need to worry about this increase in creatin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KI and 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rrantes et al. Mayo Clin Proc, 2009; 84(5); 410-4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spective cohort and case-control study of 735 adult patients with AKI (increase in serum creatinine &gt;.3 within 48 hou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089 controls at a single community hos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KI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ients with AKI w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X more likely to die in the hos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X more likely to have LOS&gt;7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X more likely to require critical 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ich diagnostic test is the highest yield and most cost-effect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d 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le for 24 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K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oponin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thostatic V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lt-table t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meet the patient’s wife and before she shakes your hand she asks you if you have washed your hand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ve you washed your hand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e as you hit the alcohol dispenser on the w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ely before and after each patient cont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course as you wipe your lunch on your pat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yo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roving hand hygi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int et al. Qual Saf Health Care 2009; 18: 4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a mulitmodal intervention improve healthcare worker hand hygie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 hygiene intervention 5 hosp units; mulitmodal intervention over 2 weeks; before/after observ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43000" y="1397160"/>
          <a:ext cx="6858000" cy="406368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din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rs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ct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D champion identified, engaged, motivated by base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diology unit MDs; pre: 6.4%, post 3.8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D champion key, rates still po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0 yo woman with DM and CKD found altered in her apar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she is in the ER her temp is 38.5C and she is somnolent with nuccal rigid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uspect bacterial meningitis and perform LP, start empiric antibiotics and admit her to the hos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289320" y="1658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uld you also start steroid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s on the g stain; if GPC y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 in this pat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in children but not in ad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roids in acute bacterial meningit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ri, et al. Mayo Clinic Proc 2009; 84(5) 403-4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effect of adjuvant steroids on short-term mortality and neurologic sequelae in acute bacterial meningit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stematic review/meta-analysis, placebo-controlled, RCTs. 4 trials; 1261 adult and adolescent pat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143000" y="1397160"/>
          <a:ext cx="6858000" cy="406368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oled RR of death (95% C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velop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 HIV preval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developed countries: NNT to prevent 1 death 12.5. NNT to prevent 1 death from S pneumo is 4.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NT to prevent 1 neuro sequelae in developed countries is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s used dexamethasone .6 mg/kg/day 4 X a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agnostic Tests in Sync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du ML, et al, Arch Intern Med July 2009: 169:12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spective cohort study 2100 pts. All &gt;65 yo.  Studies ordered were noted and if tests made diagnosis or changed manag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3% had diagnosis for sync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common causes vasovagal, orthosta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atient worsens and a code blue is called. The son and daughter are outside the room and they would like to come into the room during the resusci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you allow tha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you allow family to be present during resuscita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it is important to show them that everything is being done and so they can be there for h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, too traumatic for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my hospital has a policy allowing families to be pres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, having the family might impair the performance of the code t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mily presence at co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rnandez R, et al Crit Care Med. June 2009; 37; 195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CT 2nd and 3rd year EM residents, simulated codes, worker and family member present: 3 groups, no family witness, a nonobstuctive “quiet” witness, a witness with an “overt grief reactio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143000" y="1397160"/>
          <a:ext cx="6858000" cy="472428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itical a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witn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i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t grie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to 1st co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to 1st sh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 of shoc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to dea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st Com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rospective study of 509 out-of-hospital cardiac arrests ( VF or VT) examined % time given chest compressions and outc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% time patients were given chest compressions increased the odds of surviving to hospital discharge (11% increase for each 10% increase in time sp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el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) use dilt instead of dig or amio for rate control in uncomplicated af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) give pneumovax to eligible nursing home pat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) appreciate how common important incidental findings are in CT scans for 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) prioritize chest compressions in resusci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 limiting the eval of syncope in patients &gt;65 to history, exam, orthostatics, tele, EKG, troponin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the risk of VTE with PICC is 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using D-Dimer to R/O aortic diss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) small increases in creatinine in the hospital may be import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)how hard it is to get providers to wash their h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) the consequences of allowing family members to be present at resusci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32353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 obtained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fected diagnosis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fected management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diac enzy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 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thostatic 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2967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 obtained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st per + test -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eme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ponin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 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8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9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thostatic 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agnostic Tests in Sync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thostatic VS the best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KG, tele, and troponin high-yield, low 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patient has a normal EKG and troponin and is admitted to tele for obser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develops rapid atrial fib the next day, to 1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rate control in absence of CHF and normal renal functio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am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di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di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me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diove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19:36:41Z</dcterms:created>
  <dc:creator>hcmartinez</dc:creator>
  <dc:description/>
  <dc:language>en-US</dc:language>
  <cp:lastModifiedBy>hcmartinez</cp:lastModifiedBy>
  <dcterms:modified xsi:type="dcterms:W3CDTF">2010-06-30T16:45:10Z</dcterms:modified>
  <cp:revision>17</cp:revision>
  <dc:subject/>
  <dc:title>Significant Articles 2009 Hospital Medicine</dc:title>
</cp:coreProperties>
</file>